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4.gif" ContentType="image/gif"/>
  <Override PartName="/ppt/media/image34.gif" ContentType="image/gif"/>
  <Override PartName="/ppt/media/image9.gif" ContentType="image/gif"/>
  <Override PartName="/ppt/media/image8.wmf" ContentType="image/x-wmf"/>
  <Override PartName="/ppt/media/image10.gif" ContentType="image/gif"/>
  <Override PartName="/ppt/media/image12.jpeg" ContentType="image/jpeg"/>
  <Override PartName="/ppt/media/image13.gif" ContentType="image/gif"/>
  <Override PartName="/ppt/media/image30.jpeg" ContentType="image/jpeg"/>
  <Override PartName="/ppt/media/image17.wmf" ContentType="image/x-wmf"/>
  <Override PartName="/ppt/media/image31.jpeg" ContentType="image/jpeg"/>
  <Override PartName="/ppt/media/image22.gif" ContentType="image/gif"/>
  <Override PartName="/ppt/media/image32.gif" ContentType="image/gif"/>
  <Override PartName="/ppt/media/image25.png" ContentType="image/png"/>
  <Override PartName="/ppt/media/image21.wmf" ContentType="image/x-wmf"/>
  <Override PartName="/ppt/media/image33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2.wmf" ContentType="image/x-wmf"/>
  <Override PartName="/ppt/media/image1.png" ContentType="image/png"/>
  <Override PartName="/ppt/media/image15.wmf" ContentType="image/x-wmf"/>
  <Override PartName="/ppt/media/image19.gif" ContentType="image/gif"/>
  <Override PartName="/ppt/media/image16.wmf" ContentType="image/x-wmf"/>
  <Override PartName="/ppt/media/image18.wmf" ContentType="image/x-wmf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F3A-732E-4F19-903C-713DE68E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7049-CB4B-4C92-8706-E8F7041B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7CC9-9AE8-48C5-A0BD-D95105F6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510-DE52-404E-99ED-A76BB02A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A2BF-6244-40CD-AEAE-4AC7349F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18C-9B76-47F5-83AE-5C96E5FF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5623-5CD6-492C-BDC2-CB56D604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480" y="4642920"/>
            <a:ext cx="5038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16D7-2F57-4010-BB1A-9D4C5C75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5AC-3F99-4401-92BC-94D0A560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27C-9EBC-4961-AAE0-9F1253E7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1904-6CFE-46AA-8086-E8416279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D4A4-9C31-494C-BFC8-FC905557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CCD-5074-4788-BDCE-A5215F35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4BC-9889-400E-8FAE-6ECA3DBF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80A-0507-4A1A-9CB3-2E62680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C52-F8F0-47B8-8D67-E78773C0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43E-3AC1-4877-8C70-43C29EAA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411-A826-4C29-B7A6-362B710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C42-A9F5-4E51-86B1-044EF57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D1B-E2A0-412A-8489-2B06FB5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8E2-349E-4C19-A490-7777855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86F-C411-40AB-8DB1-BA04480D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166-E37E-4E12-88BA-0E547B0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3B1-0334-471A-A3B0-43FB95C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5FB-E462-4057-9163-00CF706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638-7E60-4215-B7D2-C540EEAFA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Belgium" TargetMode="External"/><Relationship Id="rId7" Type="http://schemas.openxmlformats.org/officeDocument/2006/relationships/hyperlink" Target="http://en.wikipedia.org/wiki/European_Union" TargetMode="External"/><Relationship Id="rId8" Type="http://schemas.openxmlformats.org/officeDocument/2006/relationships/hyperlink" Target="http://en.wikipedia.org/wiki/European_Commission" TargetMode="External"/><Relationship Id="rId9" Type="http://schemas.openxmlformats.org/officeDocument/2006/relationships/hyperlink" Target="http://en.wikipedia.org/wiki/Council_of_the_European_Union" TargetMode="External"/><Relationship Id="rId10" Type="http://schemas.openxmlformats.org/officeDocument/2006/relationships/hyperlink" Target="http://en.wikipedia.org/wiki/Image:Zuidertoren.jpg" TargetMode="External"/><Relationship Id="rId11" Type="http://schemas.openxmlformats.org/officeDocument/2006/relationships/image" Target="../media/image31.jpeg"/><Relationship Id="rId12" Type="http://schemas.openxmlformats.org/officeDocument/2006/relationships/hyperlink" Target="http://en.wikipedia.org/wiki/South_Tower_%28Brussels%29" TargetMode="External"/><Relationship Id="rId13" Type="http://schemas.openxmlformats.org/officeDocument/2006/relationships/hyperlink" Target="http://en.wikipedia.org/wiki/Atomium" TargetMode="External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wm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2421000"/>
            <a:ext cx="514836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0000ff"/>
            </a:solidFill>
            <a:prstDash val="lgDash"/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ff"/>
                </a:solidFill>
                <a:latin typeface="Accent SF"/>
              </a:rPr>
              <a:t> </a:t>
            </a: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Les métiers</a:t>
            </a:r>
            <a:br>
              <a:rPr sz="5400"/>
            </a:b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688000" y="324972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5"/>
          <p:cNvSpPr/>
          <p:nvPr/>
        </p:nvSpPr>
        <p:spPr>
          <a:xfrm>
            <a:off x="7631280" y="5524560"/>
            <a:ext cx="1512720" cy="106740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684360" y="1308240"/>
            <a:ext cx="37432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1. Je m’appelle Fred. Mon oncle est cuisin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7640" y="3573360"/>
          <a:ext cx="8245440" cy="2967120"/>
        </p:xfrm>
        <a:graphic>
          <a:graphicData uri="http://schemas.openxmlformats.org/drawingml/2006/table">
            <a:tbl>
              <a:tblPr/>
              <a:tblGrid>
                <a:gridCol w="1008000"/>
                <a:gridCol w="2160720"/>
                <a:gridCol w="2376360"/>
                <a:gridCol w="270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mily 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Jo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50"/>
          <p:cNvSpPr/>
          <p:nvPr/>
        </p:nvSpPr>
        <p:spPr>
          <a:xfrm>
            <a:off x="2916360" y="0"/>
            <a:ext cx="35272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es mé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4643280" y="1308240"/>
            <a:ext cx="381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2. Je m’appelle Lucie. Mon frère est étudi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684360" y="2316240"/>
            <a:ext cx="37432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3. Je m’appelle Anne. Ma mère est méde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643280" y="2316240"/>
            <a:ext cx="381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4. Je m’appelle Jean. Ma soeur est graph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1619280" y="584280"/>
            <a:ext cx="6337440" cy="64260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in table IN ENGLISH with each person’s name, the family member and their jo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8" descr="j0396710"/>
          <p:cNvPicPr/>
          <p:nvPr/>
        </p:nvPicPr>
        <p:blipFill>
          <a:blip r:embed="rId3"/>
          <a:stretch/>
        </p:blipFill>
        <p:spPr>
          <a:xfrm>
            <a:off x="0" y="2276640"/>
            <a:ext cx="708120" cy="99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9" descr="j0355921"/>
          <p:cNvPicPr/>
          <p:nvPr/>
        </p:nvPicPr>
        <p:blipFill>
          <a:blip r:embed="rId4"/>
          <a:stretch/>
        </p:blipFill>
        <p:spPr>
          <a:xfrm>
            <a:off x="8432640" y="1233360"/>
            <a:ext cx="711360" cy="97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0" descr="j0226124"/>
          <p:cNvPicPr/>
          <p:nvPr/>
        </p:nvPicPr>
        <p:blipFill>
          <a:blip r:embed="rId5"/>
          <a:stretch/>
        </p:blipFill>
        <p:spPr>
          <a:xfrm>
            <a:off x="0" y="1305000"/>
            <a:ext cx="622440" cy="82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1" descr="j0356792"/>
          <p:cNvPicPr/>
          <p:nvPr/>
        </p:nvPicPr>
        <p:blipFill>
          <a:blip r:embed="rId6"/>
          <a:stretch/>
        </p:blipFill>
        <p:spPr>
          <a:xfrm>
            <a:off x="8388360" y="2349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Can you name 6 different jo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animal_box1"/>
          <p:cNvPicPr/>
          <p:nvPr/>
        </p:nvPicPr>
        <p:blipFill>
          <a:blip r:embed="rId1"/>
          <a:stretch/>
        </p:blipFill>
        <p:spPr>
          <a:xfrm>
            <a:off x="4859280" y="177336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10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84360" y="4508640"/>
            <a:ext cx="3816360" cy="8240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as many jobs as you can remember into the box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3"/>
          <p:cNvSpPr txBox="1"/>
          <p:nvPr/>
        </p:nvSpPr>
        <p:spPr>
          <a:xfrm>
            <a:off x="179280" y="3573360"/>
            <a:ext cx="230688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the text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d answer the questions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5" name="Picture 4" descr="AG00299_"/>
          <p:cNvPicPr/>
          <p:nvPr/>
        </p:nvPicPr>
        <p:blipFill>
          <a:blip r:embed="rId1"/>
          <a:stretch/>
        </p:blipFill>
        <p:spPr>
          <a:xfrm>
            <a:off x="755640" y="501336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4856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j0396700"/>
          <p:cNvPicPr/>
          <p:nvPr/>
        </p:nvPicPr>
        <p:blipFill>
          <a:blip r:embed="rId4"/>
          <a:stretch/>
        </p:blipFill>
        <p:spPr>
          <a:xfrm>
            <a:off x="187200" y="800280"/>
            <a:ext cx="2151360" cy="2203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735280" y="620640"/>
            <a:ext cx="6121440" cy="2808360"/>
          </a:xfrm>
          <a:prstGeom prst="wedgeRoundRectCallout">
            <a:avLst>
              <a:gd name="adj1" fmla="val -74560"/>
              <a:gd name="adj2" fmla="val -17157"/>
              <a:gd name="adj3" fmla="val 16667"/>
            </a:avLst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lut! Je m’appelle Elise. J’ai quatorze ans et je suis belge. J’habite à Bruxelles en Belgique. Mon père s’appelle Luc. Il est médecin. Ma mère s’appelle Marie. Elle est infirmière. Elle travaille dans un hôpital. J’ai une soeur qui a dix-huit ans. Elle est étudiante. J’ai aussi un frère. Il s’appelle pierre et il est maç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AG00299_"/>
          <p:cNvPicPr/>
          <p:nvPr/>
        </p:nvPicPr>
        <p:blipFill>
          <a:blip r:embed="rId1"/>
          <a:stretch/>
        </p:blipFill>
        <p:spPr>
          <a:xfrm>
            <a:off x="755640" y="501336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900000" y="584280"/>
            <a:ext cx="7417080" cy="3276360"/>
          </a:xfrm>
          <a:prstGeom prst="wedgeRoundRectCallout">
            <a:avLst>
              <a:gd name="adj1" fmla="val -49722"/>
              <a:gd name="adj2" fmla="val 17685"/>
              <a:gd name="adj3" fmla="val 16667"/>
            </a:avLst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lut! Je m’appelle Delphine. J’ai dix-sept ans et je suis belge. J’habite à Bruges en Belgique. Mon père s’appelle Antoine. Il est dentiste. Ma mère s’appelle Carole. Elle est coiffeuse. Elle travaille dans un salon de beauté. J’ai une soeur qui a huit ans. Elle est étudiante. J’ai aussi un frère. Il s’appelle Matthieu et il est graphiste en Angle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’année dernière j’ai travaillé dans un salon de coiffure, J’ai aimé l’expé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’était intéressant mais fatiga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91440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5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48560" y="6267600"/>
            <a:ext cx="595440" cy="5904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0"/>
          <p:cNvSpPr txBox="1"/>
          <p:nvPr/>
        </p:nvSpPr>
        <p:spPr>
          <a:xfrm>
            <a:off x="287280" y="3573360"/>
            <a:ext cx="230652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the text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d answer the questions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ap of europe"/>
          <p:cNvPicPr/>
          <p:nvPr/>
        </p:nvPicPr>
        <p:blipFill>
          <a:blip r:embed="rId1"/>
          <a:stretch/>
        </p:blipFill>
        <p:spPr>
          <a:xfrm>
            <a:off x="179280" y="1222200"/>
            <a:ext cx="3581640" cy="3524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4211640" y="189000"/>
            <a:ext cx="3673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Brux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24000" y="4506840"/>
            <a:ext cx="27367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’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arte-belgique-mini"/>
          <p:cNvPicPr/>
          <p:nvPr/>
        </p:nvPicPr>
        <p:blipFill>
          <a:blip r:embed="rId2"/>
          <a:stretch/>
        </p:blipFill>
        <p:spPr>
          <a:xfrm>
            <a:off x="3851280" y="1481040"/>
            <a:ext cx="5292720" cy="4792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3780000" y="5661000"/>
            <a:ext cx="3673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a Bel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5437080" y="836640"/>
            <a:ext cx="1079640" cy="244800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Bruxelles%20-%20atomo"/>
          <p:cNvPicPr/>
          <p:nvPr/>
        </p:nvPicPr>
        <p:blipFill>
          <a:blip r:embed="rId1"/>
          <a:stretch/>
        </p:blipFill>
        <p:spPr>
          <a:xfrm>
            <a:off x="684360" y="0"/>
            <a:ext cx="1485720" cy="2190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stras-building-microservice3-small"/>
          <p:cNvPicPr/>
          <p:nvPr/>
        </p:nvPicPr>
        <p:blipFill>
          <a:blip r:embed="rId2"/>
          <a:stretch/>
        </p:blipFill>
        <p:spPr>
          <a:xfrm>
            <a:off x="5724360" y="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00327564"/>
          <p:cNvPicPr/>
          <p:nvPr/>
        </p:nvPicPr>
        <p:blipFill>
          <a:blip r:embed="rId3"/>
          <a:stretch/>
        </p:blipFill>
        <p:spPr>
          <a:xfrm>
            <a:off x="8388360" y="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2627280" y="476280"/>
            <a:ext cx="2495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Bruxel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239" name="Picture 6" descr="Brussels Photo"/>
          <p:cNvPicPr/>
          <p:nvPr/>
        </p:nvPicPr>
        <p:blipFill>
          <a:blip r:embed="rId4"/>
          <a:stretch/>
        </p:blipFill>
        <p:spPr>
          <a:xfrm>
            <a:off x="684360" y="4905360"/>
            <a:ext cx="272412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Vivre à Bruxelles"/>
          <p:cNvPicPr/>
          <p:nvPr/>
        </p:nvPicPr>
        <p:blipFill>
          <a:blip r:embed="rId5"/>
          <a:stretch/>
        </p:blipFill>
        <p:spPr>
          <a:xfrm>
            <a:off x="6985080" y="4724280"/>
            <a:ext cx="1476360" cy="2133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243520" y="2224080"/>
            <a:ext cx="486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russels is the capital of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elgium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55520" y="2572560"/>
            <a:ext cx="9204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wo of the three main institutions of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European Un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European Commiss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Council of the European Un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ve their headquarters in Brussel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South tow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4797360"/>
            <a:ext cx="119880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549000" y="3674160"/>
            <a:ext cx="835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highest building in Brussels is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South Tower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(150 m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most famous probably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Atomium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j0364154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j0364154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53964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3 sentences saying your NAME, your AGE and WHERE YOU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0"/>
          <p:cNvSpPr txBox="1"/>
          <p:nvPr/>
        </p:nvSpPr>
        <p:spPr>
          <a:xfrm>
            <a:off x="2016000" y="333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1" name="Picture 12" descr="AG00218_"/>
          <p:cNvPicPr/>
          <p:nvPr/>
        </p:nvPicPr>
        <p:blipFill>
          <a:blip r:embed="rId3"/>
          <a:stretch/>
        </p:blipFill>
        <p:spPr>
          <a:xfrm>
            <a:off x="7559640" y="18900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j0226124"/>
          <p:cNvPicPr/>
          <p:nvPr/>
        </p:nvPicPr>
        <p:blipFill>
          <a:blip r:embed="rId4"/>
          <a:stretch/>
        </p:blipFill>
        <p:spPr>
          <a:xfrm>
            <a:off x="287280" y="15228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476360" y="189000"/>
            <a:ext cx="5905440" cy="691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résente ta f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052640"/>
            <a:ext cx="2448000" cy="549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beau-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belle-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fr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demi-fr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so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demi-so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grand-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grand-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o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219640" y="3141720"/>
            <a:ext cx="2881440" cy="86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l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Elle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740720" y="3573360"/>
            <a:ext cx="9475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+ jo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257" name="Picture 6" descr="Draw BlackDog!"/>
          <p:cNvPicPr/>
          <p:nvPr/>
        </p:nvPicPr>
        <p:blipFill>
          <a:blip r:embed="rId1"/>
          <a:stretch/>
        </p:blipFill>
        <p:spPr>
          <a:xfrm>
            <a:off x="4140360" y="5896080"/>
            <a:ext cx="1225440" cy="96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geeky_girl_jabbering_lg_clr"/>
          <p:cNvPicPr/>
          <p:nvPr/>
        </p:nvPicPr>
        <p:blipFill>
          <a:blip r:embed="rId2"/>
          <a:stretch/>
        </p:blipFill>
        <p:spPr>
          <a:xfrm>
            <a:off x="8086680" y="115920"/>
            <a:ext cx="988920" cy="1684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8"/>
          <p:cNvSpPr txBox="1"/>
          <p:nvPr/>
        </p:nvSpPr>
        <p:spPr>
          <a:xfrm>
            <a:off x="3456000" y="3968640"/>
            <a:ext cx="12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+ na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60" name="WordArt 9"/>
          <p:cNvSpPr txBox="1"/>
          <p:nvPr/>
        </p:nvSpPr>
        <p:spPr>
          <a:xfrm>
            <a:off x="2987640" y="2997360"/>
            <a:ext cx="199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'appell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1" name="Picture 1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539640" y="126828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w writ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t least three senten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aying what jobs different members of your real or imaginary family do. Add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t least one opin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se the previous slide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8"/>
          <p:cNvSpPr txBox="1"/>
          <p:nvPr/>
        </p:nvSpPr>
        <p:spPr>
          <a:xfrm>
            <a:off x="2124000" y="441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7" name="Picture 10" descr="AG00218_"/>
          <p:cNvPicPr/>
          <p:nvPr/>
        </p:nvPicPr>
        <p:blipFill>
          <a:blip r:embed="rId3"/>
          <a:stretch/>
        </p:blipFill>
        <p:spPr>
          <a:xfrm>
            <a:off x="7559640" y="18900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j0226124"/>
          <p:cNvPicPr/>
          <p:nvPr/>
        </p:nvPicPr>
        <p:blipFill>
          <a:blip r:embed="rId4"/>
          <a:stretch/>
        </p:blipFill>
        <p:spPr>
          <a:xfrm>
            <a:off x="287280" y="15228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908000" y="333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5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03280" y="10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agine you had a summer job last summer.  Write a paragraph saying what you did and give complex opin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AG00218_"/>
          <p:cNvPicPr/>
          <p:nvPr/>
        </p:nvPicPr>
        <p:blipFill>
          <a:blip r:embed="rId3"/>
          <a:stretch/>
        </p:blipFill>
        <p:spPr>
          <a:xfrm>
            <a:off x="7920000" y="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j0226124"/>
          <p:cNvPicPr/>
          <p:nvPr/>
        </p:nvPicPr>
        <p:blipFill>
          <a:blip r:embed="rId4"/>
          <a:stretch/>
        </p:blipFill>
        <p:spPr>
          <a:xfrm>
            <a:off x="287280" y="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549360" y="609480"/>
            <a:ext cx="3962160" cy="205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Learn to recognise and name different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Understand how to describe what jobs your family members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3" descr="j0095744"/>
          <p:cNvPicPr/>
          <p:nvPr/>
        </p:nvPicPr>
        <p:blipFill>
          <a:blip r:embed="rId1"/>
          <a:stretch/>
        </p:blipFill>
        <p:spPr>
          <a:xfrm>
            <a:off x="5796000" y="620640"/>
            <a:ext cx="155736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44"/>
          <p:cNvSpPr txBox="1"/>
          <p:nvPr/>
        </p:nvSpPr>
        <p:spPr>
          <a:xfrm>
            <a:off x="5580000" y="148428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5867280" y="2565360"/>
            <a:ext cx="3025800" cy="133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Remember 6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Say what each member of your family does as a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479736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7236000" y="573408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9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399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Were you able to say what each member of your family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animal_box1"/>
          <p:cNvPicPr/>
          <p:nvPr/>
        </p:nvPicPr>
        <p:blipFill>
          <a:blip r:embed="rId1"/>
          <a:stretch/>
        </p:blipFill>
        <p:spPr>
          <a:xfrm>
            <a:off x="2340000" y="184464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78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0904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40000" y="10904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478400" y="108756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89320" y="32479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79280" y="324972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648480" y="105264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9640" y="1090440"/>
            <a:ext cx="136692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736720" y="1090440"/>
            <a:ext cx="136692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478400" y="3249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648480" y="3249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861080" y="1090440"/>
            <a:ext cx="136656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7021440" y="105264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539640" y="3249720"/>
            <a:ext cx="136836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2736720" y="325116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4859280" y="324972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7021440" y="325116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431640" y="5386320"/>
            <a:ext cx="79930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édeci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infirmièr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étudiant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mécanic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aç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graphis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cuisini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coiff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684360" y="189000"/>
            <a:ext cx="777528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name for each job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0" descr="AG00182_"/>
          <p:cNvPicPr/>
          <p:nvPr/>
        </p:nvPicPr>
        <p:blipFill>
          <a:blip r:embed="rId3"/>
          <a:stretch/>
        </p:blipFill>
        <p:spPr>
          <a:xfrm>
            <a:off x="5256360" y="5562720"/>
            <a:ext cx="11998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2"/>
          <p:cNvSpPr/>
          <p:nvPr/>
        </p:nvSpPr>
        <p:spPr>
          <a:xfrm>
            <a:off x="1547640" y="6273720"/>
            <a:ext cx="331164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old down ALT &amp; type 0233 for é, 0232 for è &amp; 135 for 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4" descr="sammy2"/>
          <p:cNvPicPr/>
          <p:nvPr/>
        </p:nvPicPr>
        <p:blipFill>
          <a:blip r:embed="rId4"/>
          <a:stretch/>
        </p:blipFill>
        <p:spPr>
          <a:xfrm>
            <a:off x="7343640" y="3284640"/>
            <a:ext cx="696960" cy="123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5" descr="baker_walking_with_wedding_cake_lg_clr"/>
          <p:cNvPicPr/>
          <p:nvPr/>
        </p:nvPicPr>
        <p:blipFill>
          <a:blip r:embed="rId5"/>
          <a:stretch/>
        </p:blipFill>
        <p:spPr>
          <a:xfrm>
            <a:off x="611280" y="3176640"/>
            <a:ext cx="1179360" cy="14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6" descr="asia_hair_stylist_cutting_womans_hair_lg_clr"/>
          <p:cNvPicPr/>
          <p:nvPr/>
        </p:nvPicPr>
        <p:blipFill>
          <a:blip r:embed="rId6"/>
          <a:stretch/>
        </p:blipFill>
        <p:spPr>
          <a:xfrm>
            <a:off x="2951280" y="3176640"/>
            <a:ext cx="8636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7" descr="MCj04044310000[1]"/>
          <p:cNvPicPr/>
          <p:nvPr/>
        </p:nvPicPr>
        <p:blipFill>
          <a:blip r:embed="rId7"/>
          <a:stretch/>
        </p:blipFill>
        <p:spPr>
          <a:xfrm>
            <a:off x="611280" y="1268280"/>
            <a:ext cx="1390680" cy="109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8" descr="construction_jackhammer_operator_lg_clr"/>
          <p:cNvPicPr/>
          <p:nvPr/>
        </p:nvPicPr>
        <p:blipFill>
          <a:blip r:embed="rId8"/>
          <a:stretch/>
        </p:blipFill>
        <p:spPr>
          <a:xfrm>
            <a:off x="7236000" y="1052640"/>
            <a:ext cx="94752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9" descr="mechanic_jack_car_lg_clr"/>
          <p:cNvPicPr/>
          <p:nvPr/>
        </p:nvPicPr>
        <p:blipFill>
          <a:blip r:embed="rId9"/>
          <a:stretch/>
        </p:blipFill>
        <p:spPr>
          <a:xfrm>
            <a:off x="4680000" y="3392640"/>
            <a:ext cx="172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0" descr="wavbtn1a"/>
          <p:cNvPicPr/>
          <p:nvPr/>
        </p:nvPicPr>
        <p:blipFill>
          <a:blip r:embed="rId10"/>
          <a:stretch/>
        </p:blipFill>
        <p:spPr>
          <a:xfrm>
            <a:off x="3059280" y="1125360"/>
            <a:ext cx="738000" cy="12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2" descr="doctor_cartoon"/>
          <p:cNvPicPr/>
          <p:nvPr/>
        </p:nvPicPr>
        <p:blipFill>
          <a:blip r:embed="rId11"/>
          <a:stretch/>
        </p:blipFill>
        <p:spPr>
          <a:xfrm>
            <a:off x="5184720" y="1089000"/>
            <a:ext cx="70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1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464000" y="1736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0" y="274464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608360" y="382428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4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doctor_cartoon"/>
          <p:cNvPicPr/>
          <p:nvPr/>
        </p:nvPicPr>
        <p:blipFill>
          <a:blip r:embed="rId3"/>
          <a:stretch/>
        </p:blipFill>
        <p:spPr>
          <a:xfrm>
            <a:off x="1332000" y="1700280"/>
            <a:ext cx="1333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500720" y="1628640"/>
            <a:ext cx="31683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3564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35640" y="3860640"/>
            <a:ext cx="32032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carpenter_circular_saw_lg_wht"/>
          <p:cNvPicPr/>
          <p:nvPr/>
        </p:nvPicPr>
        <p:blipFill>
          <a:blip r:embed="rId3"/>
          <a:stretch/>
        </p:blipFill>
        <p:spPr>
          <a:xfrm>
            <a:off x="792000" y="177336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phi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3440" y="2708280"/>
            <a:ext cx="41752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ormaticien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344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j0195384"/>
          <p:cNvPicPr/>
          <p:nvPr/>
        </p:nvPicPr>
        <p:blipFill>
          <a:blip r:embed="rId3"/>
          <a:stretch/>
        </p:blipFill>
        <p:spPr>
          <a:xfrm>
            <a:off x="1008000" y="198900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42764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Etudi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42908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phi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42908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MCj04043750000[1]"/>
          <p:cNvPicPr/>
          <p:nvPr/>
        </p:nvPicPr>
        <p:blipFill>
          <a:blip r:embed="rId3"/>
          <a:stretch/>
        </p:blipFill>
        <p:spPr>
          <a:xfrm>
            <a:off x="1008000" y="1952640"/>
            <a:ext cx="1959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46400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46400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46400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uisin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asia_hair_stylist_cutting_womans_hair_lg_clr"/>
          <p:cNvPicPr/>
          <p:nvPr/>
        </p:nvPicPr>
        <p:blipFill>
          <a:blip r:embed="rId3"/>
          <a:stretch/>
        </p:blipFill>
        <p:spPr>
          <a:xfrm>
            <a:off x="1042920" y="1773360"/>
            <a:ext cx="170496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42764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42908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42908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canic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Comic Sans MS"/>
              </a:rPr>
              <a:t>C’est quel mét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0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2" descr="mechanic_jack_car_lg_clr"/>
          <p:cNvPicPr/>
          <p:nvPr/>
        </p:nvPicPr>
        <p:blipFill>
          <a:blip r:embed="rId3"/>
          <a:stretch/>
        </p:blipFill>
        <p:spPr>
          <a:xfrm>
            <a:off x="431640" y="2097000"/>
            <a:ext cx="29163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scollett</cp:lastModifiedBy>
  <dcterms:modified xsi:type="dcterms:W3CDTF">2011-04-05T21:19:45Z</dcterms:modified>
  <cp:revision>86</cp:revision>
  <dc:subject/>
  <dc:title>Les sports</dc:title>
</cp:coreProperties>
</file>